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75F-4091-43C7-93F7-75FE544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954-C9E2-4396-922C-8421AC3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80B5-64DF-4919-A5AD-B44F47FF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DE0-421F-4664-9A83-2AB1E2D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543-8BBA-4415-B40B-E5A31EA6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42F-AFBD-4C0F-8829-4BCF077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0F3-832B-4E2D-9A59-B79672A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ABB-10E7-470A-8E33-366A68BF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FF4-B17F-494F-A005-C77C51D7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1EB-2993-4A3D-A387-D6D44B7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1AD-ED8C-42EE-9F5B-61B3D97D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9E9-EF70-4C3F-B451-16D3AF2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98FF-628F-4365-95DA-DCAACE5A7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agrap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NE reason that thesis is tr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serve the prize because I am the smartest man alive (Thesis: I deserve a priz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vidence that illustrates, explains, or supports the above rea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on the Scripps spelling bee; I was a mathlete (even though it’s social suicide); and I was valedictorian of my kindergarten cla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TEP: Expl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illustrates the reason and, therefore, proves the thesis. Without this step, paper is incompl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my incredible intellectual abilities, I deserve to be recognized with this prize. Winning a prize justifies my superior status in socie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04:02Z</dcterms:created>
  <dc:creator>Administrator</dc:creator>
  <dc:description/>
  <dc:language>en-US</dc:language>
  <cp:lastModifiedBy>Administrator</cp:lastModifiedBy>
  <dcterms:modified xsi:type="dcterms:W3CDTF">2010-10-19T14:04:11Z</dcterms:modified>
  <cp:revision>1</cp:revision>
  <dc:subject/>
  <dc:title>Slide 1</dc:title>
</cp:coreProperties>
</file>